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300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1FF-BEDB-484F-BF1A-692F86F8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822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41040"/>
            <a:ext cx="822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7C42-54BA-4BAD-B229-B42D15E6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6952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4104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4104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E75C-EC0C-4406-81E3-75C0C773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264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69520"/>
            <a:ext cx="264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69520"/>
            <a:ext cx="264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41040"/>
            <a:ext cx="264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41040"/>
            <a:ext cx="264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41040"/>
            <a:ext cx="264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26C0-0EBD-4FA3-8D11-202CC87E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69520"/>
            <a:ext cx="82296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292-6EAB-41A9-9059-074B532E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82296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4E3-F69D-42B4-AD96-69B6BA2E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40158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69520"/>
            <a:ext cx="40158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DAD-A142-4D7B-BE31-8306191E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2F8-829E-4A2D-9305-6BDE7D32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12BB-C97D-4844-ABC1-2D732E7D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69520"/>
            <a:ext cx="40158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4104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CA85-1D5E-449E-B19E-6B6D41FC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40158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6952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4104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0EC-1236-418E-ACCE-280A229B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6952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41040"/>
            <a:ext cx="822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A6D-B8FB-4CFC-8D50-4B8A6481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69520"/>
            <a:ext cx="82296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737320"/>
            <a:ext cx="213372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737320"/>
            <a:ext cx="289584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737320"/>
            <a:ext cx="213372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7B45-9D2E-4CD7-8E7E-FDDA0CD31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864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O</cp:lastModifiedBy>
  <dcterms:modified xsi:type="dcterms:W3CDTF">2007-02-12T04:46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